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50A-9B5B-43F2-882B-EDD03623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3A82-3424-457D-B0A4-3BDED50A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57ED-66FB-45B3-8133-F423F4EC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F70-429D-4906-A253-292B8B59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CCC0-9A90-4849-AB62-890B1F0E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7D77-34BD-4042-AD9C-FC1C10FC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0A16-07C8-487F-9423-41A35B88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952F-CF2B-41CB-80B8-DA533E30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5519-DCB6-42F6-B4ED-DBBE378D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9CC9-3898-431A-B504-B8277B50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B225-0B3D-4535-87F6-942E6823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D501-BBD9-409A-8394-0203F164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77B7-E560-4700-B5C7-88B46DBC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E583-3CB5-4F12-B623-68C729BA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D75C-F748-4A13-989B-51FF3735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5409-668F-46EC-9583-E1B1A92B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4E79-1064-4344-AFBC-A56CE0A6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FFE-1508-4B93-A0CD-27C204B8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8BC6-A704-453E-9129-48B5AEF9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08AE-3B4F-452D-93EB-7B93512D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390-450C-4800-AD71-2F500119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3D1-4E8C-4B56-8F14-F83B56CE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CFE1-25F9-43A2-A6E5-3374A1C4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6344-443F-493D-BB9A-281BD69B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20 by Sports Career Consulting, L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7829-9F2D-4C7E-A0B9-C3DB18D38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743200" y="6476760"/>
            <a:ext cx="3733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2775-F6EF-4046-81C0-FF29644BE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" Target="slide14.xml"/><Relationship Id="rId5" Type="http://schemas.openxmlformats.org/officeDocument/2006/relationships/slide" Target="slide24.xml"/><Relationship Id="rId6" Type="http://schemas.openxmlformats.org/officeDocument/2006/relationships/slide" Target="slide44.xml"/><Relationship Id="rId7" Type="http://schemas.openxmlformats.org/officeDocument/2006/relationships/slide" Target="slide34.xml"/><Relationship Id="rId8" Type="http://schemas.openxmlformats.org/officeDocument/2006/relationships/slide" Target="slide6.xml"/><Relationship Id="rId9" Type="http://schemas.openxmlformats.org/officeDocument/2006/relationships/slide" Target="slide16.xml"/><Relationship Id="rId10" Type="http://schemas.openxmlformats.org/officeDocument/2006/relationships/slide" Target="slide26.xml"/><Relationship Id="rId11" Type="http://schemas.openxmlformats.org/officeDocument/2006/relationships/slide" Target="slide46.xml"/><Relationship Id="rId12" Type="http://schemas.openxmlformats.org/officeDocument/2006/relationships/slide" Target="slide40.xml"/><Relationship Id="rId13" Type="http://schemas.openxmlformats.org/officeDocument/2006/relationships/slide" Target="slide8.xml"/><Relationship Id="rId14" Type="http://schemas.openxmlformats.org/officeDocument/2006/relationships/slide" Target="slide18.xml"/><Relationship Id="rId15" Type="http://schemas.openxmlformats.org/officeDocument/2006/relationships/slide" Target="slide30.xml"/><Relationship Id="rId16" Type="http://schemas.openxmlformats.org/officeDocument/2006/relationships/slide" Target="slide48.xml"/><Relationship Id="rId17" Type="http://schemas.openxmlformats.org/officeDocument/2006/relationships/slide" Target="slide36.xml"/><Relationship Id="rId18" Type="http://schemas.openxmlformats.org/officeDocument/2006/relationships/slide" Target="slide10.xml"/><Relationship Id="rId19" Type="http://schemas.openxmlformats.org/officeDocument/2006/relationships/slide" Target="slide20.xml"/><Relationship Id="rId20" Type="http://schemas.openxmlformats.org/officeDocument/2006/relationships/slide" Target="slide28.xml"/><Relationship Id="rId21" Type="http://schemas.openxmlformats.org/officeDocument/2006/relationships/slide" Target="slide50.xml"/><Relationship Id="rId22" Type="http://schemas.openxmlformats.org/officeDocument/2006/relationships/slide" Target="slide42.xml"/><Relationship Id="rId23" Type="http://schemas.openxmlformats.org/officeDocument/2006/relationships/slide" Target="slide12.xml"/><Relationship Id="rId24" Type="http://schemas.openxmlformats.org/officeDocument/2006/relationships/slide" Target="slide22.xml"/><Relationship Id="rId25" Type="http://schemas.openxmlformats.org/officeDocument/2006/relationships/slide" Target="slide32.xml"/><Relationship Id="rId26" Type="http://schemas.openxmlformats.org/officeDocument/2006/relationships/slide" Target="slide52.xml"/><Relationship Id="rId27" Type="http://schemas.openxmlformats.org/officeDocument/2006/relationships/slide" Target="slide38.xml"/><Relationship Id="rId28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Playing SEM Jeopar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28600" y="2286000"/>
            <a:ext cx="87631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his is Jeopardy, so where you see the text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is is the prompt the students will see, and where you see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ould be the stude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each answer appears, remember to click the arrow located in the lower left hand corner of the slide to return to the selection 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533520" y="2132640"/>
            <a:ext cx="8229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creased wireless and cellular capabilities at stadiums will continue to give fans greater access to social media and other ap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3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4"/>
          <p:cNvSpPr/>
          <p:nvPr/>
        </p:nvSpPr>
        <p:spPr>
          <a:xfrm>
            <a:off x="1404360" y="1636560"/>
            <a:ext cx="6211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In-Stadium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an Experienc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228600" y="1828080"/>
            <a:ext cx="86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tersection of in-stadium/at-home fan connectivity where fans have opportunities to always be connected to the stadium environment, regardless of their 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3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4"/>
          <p:cNvSpPr/>
          <p:nvPr/>
        </p:nvSpPr>
        <p:spPr>
          <a:xfrm>
            <a:off x="-2880" y="1676520"/>
            <a:ext cx="909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otal (Fan) Experience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1066680" y="205740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He developed the first fully synchronized sound cartoon when Mickey Mouse was featured in Steamboat Will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2058480" y="1752480"/>
            <a:ext cx="5001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ho i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alt Disney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4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268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6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2016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838080" y="1600200"/>
            <a:ext cx="7391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He has sold over 1 billion albums worldwide, far more than any other artist in history and is dubbed as </a:t>
            </a:r>
            <a:r>
              <a:rPr b="0" lang="ja-JP" sz="4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Undisputed King of Rock and Roll</a:t>
            </a:r>
            <a:r>
              <a:rPr b="0" lang="ja-JP" sz="4000" spc="-1" strike="noStrike">
                <a:solidFill>
                  <a:srgbClr val="333399"/>
                </a:solidFill>
                <a:latin typeface="Times New Roman"/>
              </a:rPr>
              <a:t>”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by the Rock and Roll Hall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Fa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1252440" y="1676520"/>
            <a:ext cx="6492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ho 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Jackie Robinson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4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294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879480" y="198108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Broke segregation barrier in pro sports when offered a contract to play for Major League Baseball’s Brooklyn Dod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1362600" y="1752480"/>
            <a:ext cx="6258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ho 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Michael Jordan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4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319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2590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Gyparody"/>
              </a:rPr>
              <a:t>Sem</a:t>
            </a:r>
            <a:br>
              <a:rPr sz="8800"/>
            </a:br>
            <a:r>
              <a:rPr b="0" lang="en-US" sz="9600" spc="-1" strike="noStrike">
                <a:solidFill>
                  <a:srgbClr val="000099"/>
                </a:solidFill>
                <a:latin typeface="Gyparody"/>
              </a:rPr>
              <a:t>jeopardy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3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685800" y="190512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He created the Muppets and Kermit the Frog and the characters for Sesame Street (Bert and Ernie, Big Bird, Grover, Oscar the Grouch etc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2058840" y="1676520"/>
            <a:ext cx="4862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ho 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Jim Henson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4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344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685800" y="190512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Became one of the first athletes to focus on a personal brand when he trademarked his name and developed a 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584360" y="1523880"/>
            <a:ext cx="597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ho 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rnold Palmer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4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369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1447920" y="243828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The acronym for sports and entertainment marketing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3"/>
          <p:cNvSpPr/>
          <p:nvPr/>
        </p:nvSpPr>
        <p:spPr>
          <a:xfrm>
            <a:off x="1829520" y="2133720"/>
            <a:ext cx="539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hat is SEM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4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394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1371600" y="220968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 means for communicating messages to a large audience or many peop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1677960" y="2057400"/>
            <a:ext cx="577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hat is media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4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419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762120" y="182880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The time available to people when they are not working or assum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responsibilities, often times referred to as </a:t>
            </a:r>
            <a:r>
              <a:rPr b="0" lang="ja-JP" sz="4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free time</a:t>
            </a:r>
            <a:r>
              <a:rPr b="0" lang="ja-JP" sz="4000" spc="-1" strike="noStrike">
                <a:solidFill>
                  <a:srgbClr val="333399"/>
                </a:solidFill>
                <a:latin typeface="Times New Roman"/>
              </a:rPr>
              <a:t>”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1905480" y="1523880"/>
            <a:ext cx="537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Leisure Tim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14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444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1295280"/>
          <a:ext cx="8839440" cy="4246560"/>
        </p:xfrm>
        <a:graphic>
          <a:graphicData uri="http://schemas.openxmlformats.org/drawingml/2006/table">
            <a:tbl>
              <a:tblPr/>
              <a:tblGrid>
                <a:gridCol w="1768680"/>
                <a:gridCol w="1766880"/>
                <a:gridCol w="1768320"/>
                <a:gridCol w="1766880"/>
                <a:gridCol w="1768680"/>
              </a:tblGrid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an Eng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EM Industry Pione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EM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unctions of Mark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Defining S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3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6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7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6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2016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3"/>
          <p:cNvSpPr/>
          <p:nvPr/>
        </p:nvSpPr>
        <p:spPr>
          <a:xfrm>
            <a:off x="1295280" y="20574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The two primary types of sports and entertainment marke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609480" y="152388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marketing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through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spor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d the marketing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port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14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470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3"/>
          <p:cNvSpPr/>
          <p:nvPr/>
        </p:nvSpPr>
        <p:spPr>
          <a:xfrm>
            <a:off x="1066680" y="1828800"/>
            <a:ext cx="7086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 the early days of team sports, these were the only two consistent revenue streams for team own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457200" y="1676520"/>
            <a:ext cx="798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at are concessions an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icket sal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4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495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3"/>
          <p:cNvSpPr/>
          <p:nvPr/>
        </p:nvSpPr>
        <p:spPr>
          <a:xfrm>
            <a:off x="685800" y="2057400"/>
            <a:ext cx="807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The process of developing, promoting, and distributing products, or goods and services, to satisfy customers</a:t>
            </a:r>
            <a:r>
              <a:rPr b="0" lang="ja-JP" sz="40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needs and wa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916200" y="1981080"/>
            <a:ext cx="730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hat is marketing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4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520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609480" y="1828800"/>
            <a:ext cx="807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The market in which the businesses and products offered to its buyers are sport related and may be goods, services, people, places or ide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1677960" y="1828800"/>
            <a:ext cx="5933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port Industry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4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545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3"/>
          <p:cNvSpPr/>
          <p:nvPr/>
        </p:nvSpPr>
        <p:spPr>
          <a:xfrm>
            <a:off x="533520" y="1523880"/>
            <a:ext cx="8229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The process of developing, promoting, and distributing products, or goods and services, to satisfy customer</a:t>
            </a:r>
            <a:r>
              <a:rPr b="0" lang="ja-JP" sz="40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 needs and wants through entertainment, or any diversion, amusement, or method of occupying ti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3"/>
          <p:cNvSpPr/>
          <p:nvPr/>
        </p:nvSpPr>
        <p:spPr>
          <a:xfrm>
            <a:off x="519480" y="2054160"/>
            <a:ext cx="8236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hat is entertain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marketing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14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570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762120" y="175248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How fans connect with athletes and entertainers, and the method a sports team, league or brand communicates with the fan b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914400" y="205740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Whatever activities people are willing to spend their money and spare time viewing rather than participating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679040" y="1905120"/>
            <a:ext cx="5673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ntertainment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4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595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3"/>
          <p:cNvSpPr/>
          <p:nvPr/>
        </p:nvSpPr>
        <p:spPr>
          <a:xfrm>
            <a:off x="914400" y="175248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The act of using sports as a platform to market products or services and increase sales or the process the of marketing and selling the sports property itse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1753200" y="1828800"/>
            <a:ext cx="5351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hat is spor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marketing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4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620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3"/>
          <p:cNvSpPr/>
          <p:nvPr/>
        </p:nvSpPr>
        <p:spPr>
          <a:xfrm>
            <a:off x="914400" y="1752480"/>
            <a:ext cx="754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Assigning a value to products and services on the basis of supply and dema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3"/>
          <p:cNvSpPr/>
          <p:nvPr/>
        </p:nvSpPr>
        <p:spPr>
          <a:xfrm>
            <a:off x="1358640" y="1828800"/>
            <a:ext cx="614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hat is pricing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14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645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3"/>
          <p:cNvSpPr/>
          <p:nvPr/>
        </p:nvSpPr>
        <p:spPr>
          <a:xfrm>
            <a:off x="914400" y="1752480"/>
            <a:ext cx="754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The process of determining how best to get products and services to consume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667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3"/>
          <p:cNvSpPr/>
          <p:nvPr/>
        </p:nvSpPr>
        <p:spPr>
          <a:xfrm>
            <a:off x="522720" y="1828800"/>
            <a:ext cx="782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hat is distribution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14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670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3"/>
          <p:cNvSpPr/>
          <p:nvPr/>
        </p:nvSpPr>
        <p:spPr>
          <a:xfrm>
            <a:off x="1676520" y="1905120"/>
            <a:ext cx="6324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The process of creating a budget for a company</a:t>
            </a:r>
            <a:r>
              <a:rPr b="0" lang="ja-JP" sz="48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s market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3"/>
          <p:cNvSpPr/>
          <p:nvPr/>
        </p:nvSpPr>
        <p:spPr>
          <a:xfrm>
            <a:off x="966960" y="1828800"/>
            <a:ext cx="693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hat is financing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4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695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1315800" y="1905120"/>
            <a:ext cx="667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an Engagement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5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143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3"/>
          <p:cNvSpPr/>
          <p:nvPr/>
        </p:nvSpPr>
        <p:spPr>
          <a:xfrm>
            <a:off x="762120" y="1752480"/>
            <a:ext cx="7924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The process of communicating with consumers to assess and fill their needs, as well as anticipating future nee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2016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3"/>
          <p:cNvSpPr/>
          <p:nvPr/>
        </p:nvSpPr>
        <p:spPr>
          <a:xfrm>
            <a:off x="1906200" y="1828800"/>
            <a:ext cx="586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hat is selling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4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721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726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3"/>
          <p:cNvSpPr/>
          <p:nvPr/>
        </p:nvSpPr>
        <p:spPr>
          <a:xfrm>
            <a:off x="762120" y="1752480"/>
            <a:ext cx="7924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The process of gathering and using information about customers to improve business decision mak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611280" y="1981080"/>
            <a:ext cx="80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at is marketing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formation-managemen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14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746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806400" y="1319040"/>
            <a:ext cx="77486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online technologies and practices that people use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hare content, opinions, insights, experiences, perspectives, media and to otherw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te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3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4"/>
          <p:cNvSpPr/>
          <p:nvPr/>
        </p:nvSpPr>
        <p:spPr>
          <a:xfrm>
            <a:off x="1926000" y="1828800"/>
            <a:ext cx="5234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ocial Media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62120" y="5867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838080" y="1873080"/>
            <a:ext cx="7748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ne Billion monthly active users and has become the most popular social media platform of people under age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914400" y="5867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ports &amp; Entertainment Marketing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Running_Man_BLACK"/>
          <p:cNvPicPr/>
          <p:nvPr/>
        </p:nvPicPr>
        <p:blipFill>
          <a:blip r:embed="rId1"/>
          <a:stretch/>
        </p:blipFill>
        <p:spPr>
          <a:xfrm>
            <a:off x="8229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7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Running_Man_BLACK"/>
          <p:cNvPicPr/>
          <p:nvPr/>
        </p:nvPicPr>
        <p:blipFill>
          <a:blip r:embed="rId2"/>
          <a:stretch/>
        </p:blipFill>
        <p:spPr>
          <a:xfrm>
            <a:off x="228600" y="228600"/>
            <a:ext cx="65088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2"/>
          <p:cNvSpPr/>
          <p:nvPr/>
        </p:nvSpPr>
        <p:spPr>
          <a:xfrm>
            <a:off x="9144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lassroom Jeopardy Challenge:  Understanding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4"/>
          <p:cNvSpPr/>
          <p:nvPr/>
        </p:nvSpPr>
        <p:spPr>
          <a:xfrm>
            <a:off x="2283480" y="1828800"/>
            <a:ext cx="4324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Instagram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2"/>
          <p:cNvSpPr/>
          <p:nvPr/>
        </p:nvSpPr>
        <p:spPr>
          <a:xfrm>
            <a:off x="2743200" y="647712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@ 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00:15:35Z</dcterms:created>
  <dc:creator>Copyright © 2006 by Sports Career Consulting, LLC</dc:creator>
  <dc:description/>
  <dc:language>en-US</dc:language>
  <cp:lastModifiedBy>Chris Lindauer</cp:lastModifiedBy>
  <dcterms:modified xsi:type="dcterms:W3CDTF">2020-08-03T18:16:56Z</dcterms:modified>
  <cp:revision>39</cp:revision>
  <dc:subject/>
  <dc:title>Instructions for Using This Game Template</dc:title>
</cp:coreProperties>
</file>