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17AA9-7866-46BB-A199-ADC1517CC8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6744E-E858-4CDA-A330-79F40D0C3E6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48972-2A70-486B-BEDD-E3B7BE55514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5E4D9-FBE5-4EFD-8BAD-0AFD07A496E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BE42E-016F-453C-B351-F7155F0639D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F2488-8F3C-4FF5-8D1F-5C57D85F73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7E43C-3364-46C6-A223-7C1D836C4E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61322-4A7D-4CDF-A8A8-B8C7B2EB707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ountain Climb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52280" y="15228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 Black"/>
              </a:rPr>
              <a:t>Lesson 2.1  </a:t>
            </a:r>
            <a:r>
              <a:rPr b="0" lang="en-US" sz="3600" spc="-1" strike="noStrike">
                <a:solidFill>
                  <a:srgbClr val="ccccff"/>
                </a:solidFill>
                <a:latin typeface="Arial Black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 Black"/>
              </a:rPr>
              <a:t>Sports &amp; Entertainment Marketing Define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867280" y="6324480"/>
            <a:ext cx="32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1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1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7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457200" y="1828800"/>
            <a:ext cx="8305920" cy="408636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"I'm tired of hearing about 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money, money, money, money,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money. I just want to play the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game, drink Pepsi, wear Reebok.”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BA Star, Shaquille O'Ne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6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1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Rectangle 5"/>
          <p:cNvSpPr/>
          <p:nvPr/>
        </p:nvSpPr>
        <p:spPr>
          <a:xfrm>
            <a:off x="1066680" y="9907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Sports &amp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tainment Marketing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7200" y="2666880"/>
            <a:ext cx="845820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fine Sports &amp; Entertainment Marketing, you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first understand the foundation of the term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MS PGothic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MS PGothic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MS PGothic"/>
              </a:rPr>
              <a:t>Spor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MS PGothic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MS PGothic"/>
              </a:rPr>
              <a:t>Entertainmen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2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1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Line 6"/>
          <p:cNvSpPr/>
          <p:nvPr/>
        </p:nvSpPr>
        <p:spPr>
          <a:xfrm>
            <a:off x="3352680" y="2057400"/>
            <a:ext cx="0" cy="41911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6248520" y="2057400"/>
            <a:ext cx="0" cy="41911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62520" y="1219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Spor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248520" y="1219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Entertain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808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52280" y="2133720"/>
            <a:ext cx="3124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cess of developing, promoting, and distributing products, or goods and services to satisfy customers’ needs and w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477120" y="213372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ever people are willing to spend their money and spare time viewing rather than participat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505320" y="21337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ource of diversion or physical activity engaged in for pleas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14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1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Rectangle 5"/>
          <p:cNvSpPr/>
          <p:nvPr/>
        </p:nvSpPr>
        <p:spPr>
          <a:xfrm>
            <a:off x="228600" y="2541240"/>
            <a:ext cx="426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the goal of the sports and entertainment marketer to provide a product or service that can satisfy the needs and wants of those individuals who choose to be entertained during thei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eisure tim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38360" y="989640"/>
            <a:ext cx="26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isure Tim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257800" y="2590920"/>
            <a:ext cx="35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Leisure ti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time available to people when they are not working or assuming responsibilities, often times referred to as “free time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800600" y="1905120"/>
            <a:ext cx="0" cy="4267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295280"/>
            <a:ext cx="16700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is SEM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ESSON 2.1 REVIEW (ANSWERS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676520" y="1295280"/>
            <a:ext cx="7086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sports marketing and entertainment market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Sports marketing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is the act of using sports as a platform to market products or services and increase sales or the process the of marketing and selling the sports property itsel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Entertainment marketing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is the process of developing, promoting, and distributing products, or goods and services, to satisfy customer’s needs and wants through entertainment, or any diversion, amusement, or method of occupying tim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352680" y="655308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7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1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16:43:56Z</dcterms:created>
  <dc:creator>Copyright © 2009 by Sports Career Consulting, LLC</dc:creator>
  <dc:description/>
  <dc:language>en-US</dc:language>
  <cp:lastModifiedBy>Chris Lindauer</cp:lastModifiedBy>
  <dcterms:modified xsi:type="dcterms:W3CDTF">2020-07-31T01:12:10Z</dcterms:modified>
  <cp:revision>393</cp:revision>
  <dc:subject/>
  <dc:title>Examples of Sports Marketing</dc:title>
</cp:coreProperties>
</file>